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214-7C05-4572-8F00-7263DF9F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7F1-E0F4-461D-B581-8C1DD0BE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D39-CDB4-48C0-8BF4-3795B959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51D-E6D5-489D-A4A6-34C0F226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5C0-A4B9-41B8-B125-78EF6E17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DE6-FEE1-454E-A70B-0F042230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59B-E63E-43E1-B693-7F45CBD3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18C-4A40-469B-9CDA-6F4EEA86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221-93D7-4D5A-A2FA-22F1871A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077-5DEC-4DBE-A6C7-76B0B24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239-F9D8-4EFA-81F8-23DA12F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407-2B34-47D1-92B5-7FF76E07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636D-AAEB-4F6A-98AD-57B40228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50708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3520" y="2322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56782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143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7086600" cy="40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39152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81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66880" y="1981080"/>
            <a:ext cx="56390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5248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2262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2286000"/>
            <a:ext cx="22100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200400"/>
            <a:ext cx="2133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960" y="264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846840" cy="36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54380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167680" cy="95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1460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05740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72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52:15Z</dcterms:created>
  <dc:creator>Graham</dc:creator>
  <dc:description/>
  <dc:language>en-US</dc:language>
  <cp:lastModifiedBy>Graham</cp:lastModifiedBy>
  <dcterms:modified xsi:type="dcterms:W3CDTF">2011-10-22T22:52:20Z</dcterms:modified>
  <cp:revision>1</cp:revision>
  <dc:subject/>
  <dc:title>Slide 1</dc:title>
</cp:coreProperties>
</file>